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7D0-FB6C-4E42-96ED-76B7AD36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447-7449-4E02-AD06-7C4E4C4F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934-6B2D-4BD2-A5A7-33C10749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A21-A6BD-428B-A067-FABA94FC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CA5-D420-4DCF-B4BE-4CDD8FB2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95B-F9D2-4D1C-B8D5-6E5DBC45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C1E-C523-455B-99C0-71210CC1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EEF-E159-4A33-9642-B43E00CF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83C-EDA6-4FD1-A6B5-597B7B56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38D-1E43-48B1-B7B5-99C9A7F9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44C-E3F2-4BE7-9F5A-3B69C595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5B2-34A8-4FF0-97AD-DAAF1C2D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524640"/>
            <a:ext cx="62856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MX" sz="1000" spc="-1" strike="noStrike">
                <a:solidFill>
                  <a:srgbClr val="000048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48"/>
                </a:solidFill>
                <a:latin typeface="Arial Narrow"/>
              </a:rPr>
              <a:t>- - </a:t>
            </a:r>
            <a:fld id="{2588CF29-1CC8-44FB-A420-D427587F30AC}" type="slidenum">
              <a:rPr b="1" i="1" lang="es-MX" sz="1000" spc="-1" strike="noStrike">
                <a:solidFill>
                  <a:srgbClr val="000048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4508640"/>
            <a:ext cx="5778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igitalización y Divulgación de Fondo Antig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lección Fernando Pesqu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2AE-5217-4762-B5A8-BBC8135C1A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28680" y="171360"/>
            <a:ext cx="6529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xmLib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70920" y="2473200"/>
            <a:ext cx="1653840" cy="24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sualización  de Libro seleccionado así como su navegación a través de xmLib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64280" y="1063800"/>
            <a:ext cx="0" cy="51480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0" t="0" r="0" b="3529"/>
          <a:stretch/>
        </p:blipFill>
        <p:spPr>
          <a:xfrm>
            <a:off x="185760" y="1206360"/>
            <a:ext cx="6705720" cy="485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AA8-B801-471B-BB6F-29A7C1E028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562880" y="253368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48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28680" y="171360"/>
            <a:ext cx="6529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2600" y="1787400"/>
            <a:ext cx="803592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el tiempo de implementación y evaluación del software, se obtuvieron resultados satisfactorios tanto en la configuración como en la presentación del material, resultado final de un proceso de retroalimentación del software, logrando hacerlo mas completo y facilitando la integración de esta tecnología en otras institu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39800" y="1039680"/>
            <a:ext cx="24274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ITEX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587600"/>
            <a:ext cx="275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280" y="4383000"/>
            <a:ext cx="80359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urante la implementación se avanzó rápidamente ya que se aprovechó la experiencia previa con la instalación de CITEXT, y se tuvieron resultados muy satisfactorios ya que su funcionamiento ha sido muy estable, rápido y con muy buena distribución del contenido de sus colec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44480" y="3635280"/>
            <a:ext cx="24274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xm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Libri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0" y="4183200"/>
            <a:ext cx="275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73A-0E45-4DE7-8828-4E5B92D327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62880" y="253368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48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28680" y="171360"/>
            <a:ext cx="6529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33600" y="1473120"/>
            <a:ext cx="60418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la fecha, la Universidad de Sonora cuenta c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2, 683 páginas digitaliz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 Títulos disponibles al público en C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9 Títulos disponibles al público en xmLib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3 Títulos disponibles en formato 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niversidad de Sonora planea digitalizar y publicar 25 títulos anuales, los cuales equivaldrían aproximadamente 20,000 paginas digitaliz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ED4-6CF4-4E58-ABB9-61C92FE9B5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562880" y="253368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48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28680" y="171360"/>
            <a:ext cx="6529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4120" y="1841400"/>
            <a:ext cx="79470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divulgación del fondo antiguo Mexicano es de gran relevancia para nuestro país, ya que es la memoria del mismo. La digitalización es un proceso requerido para garantizar la preservación y difusión, es por esto que cobra suma importancia el desarrollo de herramientas computacionales que sirvan a este fin, y que aporten facilidad en la administración y la publicación del material digital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ITEXT y xm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Libri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on software publico que buscan promover la divulgación de fondo antiguo digital y conformar una red de colecciones digitales a disposición de la comunidad en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E97-55C4-4F09-8AE5-D31E0264E8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0" y="4508640"/>
            <a:ext cx="5778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igitalización y Divulgación de Fondo Antig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lección Fernando Pesqu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D66-5EFC-40A0-81F0-CC512EA44C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92240" y="2127240"/>
            <a:ext cx="6931080" cy="31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Biblioteca “Fernando Pesqueira” es una de las seis bibliotecas multidisciplinarias de la Universidad de Sonora. Por su ubicación, ofrece además servicio a la comunidad Sonorense en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uenta con las salas de Ciencia y Tecnología, Consulta, Humanidades, Sociales, Hemeroteca, y la Sala del Noroe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esta última se concentra el Fondo Antiguo con el que se está trabajando este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4240" y="171360"/>
            <a:ext cx="6529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l Sistema Institucional Bibliotec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631-2290-4D42-B03D-AA141F38D1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04840" y="2241720"/>
            <a:ext cx="6931080" cy="24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yecto “Digitalización y divulgación de acervos de Fondo Antiguo” se trabajó en conjunto con la Universidad de las Américas, Puebla; y fue respaldado económicamente por CU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objetivo del proyecto es la digitalización y divulgación de fondo antiguo, en nuestra institución específicamente l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ección Fernando Pesquei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4240" y="171360"/>
            <a:ext cx="6529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yecto de Digitalización y Divul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D4A-E799-4C4D-BB25-72A246A983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134160" y="1517040"/>
            <a:ext cx="154008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ecd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L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49720" y="1940760"/>
            <a:ext cx="203688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ecd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TALO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4760" y="2390040"/>
            <a:ext cx="203832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ecd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GIT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92520" y="3169440"/>
            <a:ext cx="22014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ecd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26520" y="4101480"/>
            <a:ext cx="176868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ecd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UB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71960" y="5398200"/>
            <a:ext cx="637920" cy="368280"/>
          </a:xfrm>
          <a:prstGeom prst="rect">
            <a:avLst/>
          </a:prstGeom>
          <a:solidFill>
            <a:srgbClr val="decd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36600" y="5398200"/>
            <a:ext cx="994680" cy="368280"/>
          </a:xfrm>
          <a:prstGeom prst="rect">
            <a:avLst/>
          </a:prstGeom>
          <a:solidFill>
            <a:srgbClr val="decd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61080" y="394668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48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64320" y="4311720"/>
            <a:ext cx="371520" cy="207720"/>
          </a:xfrm>
          <a:prstGeom prst="rect">
            <a:avLst/>
          </a:prstGeom>
          <a:solidFill>
            <a:srgbClr val="decd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07320" y="3646440"/>
            <a:ext cx="133488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876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900"/>
              </a:lnSpc>
              <a:spcBef>
                <a:spcPts val="876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Herrami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38760" y="3855960"/>
            <a:ext cx="433440" cy="21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28680" y="171360"/>
            <a:ext cx="6529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agrama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4240" y="5390280"/>
            <a:ext cx="1029600" cy="368280"/>
          </a:xfrm>
          <a:prstGeom prst="rect">
            <a:avLst/>
          </a:prstGeom>
          <a:solidFill>
            <a:srgbClr val="decd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xm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Lib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98800" y="4508640"/>
            <a:ext cx="0" cy="87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65360" y="4952880"/>
            <a:ext cx="270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65360" y="495288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70400" y="49658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1930320"/>
            <a:ext cx="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98800" y="27939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35686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2108160"/>
            <a:ext cx="115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395-4761-4B0E-AA11-6996B264D1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57360" y="1660680"/>
            <a:ext cx="735012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selección de los títulos a digitalizar se realizó con el apoyo de estudiosos del área de historia de la Universidad de Sonor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riterios de Selec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levancia histórica del lib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rado de deterioro del materi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ivel de Consulta del acer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62880" y="253368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48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28680" y="171360"/>
            <a:ext cx="6529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scripción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98600" y="950760"/>
            <a:ext cx="1982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lec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486080"/>
            <a:ext cx="275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2160" y="3884760"/>
            <a:ext cx="24274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talo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432320"/>
            <a:ext cx="275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9960" y="4645080"/>
            <a:ext cx="756612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sándose en el estándar del formato MARC21 se llevó a cabo la catalogación; este es el formato utilizado en nuestra Institución. (Fue necesaria la modificación de la plantilla MARC21 por el tipo de mater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2B5-5295-40B1-9796-D1559E82A7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62880" y="253368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48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28680" y="171360"/>
            <a:ext cx="6529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scripción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3760" y="2752560"/>
            <a:ext cx="7223400" cy="24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n proceso importante y meticuloso fue el de llevar a cabo la digitalización del material bibliográfico, la cual conlleva una gran laboriosidad a los digitaliz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 labor no es sólo la toma de imágenes, se realiza con especial cuidado para no dañar el material y obtener la mejor calidad de cada documento en el que se está trabaja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66960" y="1712880"/>
            <a:ext cx="24271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gitaliz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260440"/>
            <a:ext cx="275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47D-FE0E-4890-AA7B-D6DAFB9F98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62880" y="253368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48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28680" y="171360"/>
            <a:ext cx="6529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scripción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2280" y="2054160"/>
            <a:ext cx="75405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ntro de los procesos de divulgación de colecciones, se ve la necesidad de tener una organización del material, para ello es necesario basarse en herramientas que faciliten su publ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8360" y="1370160"/>
            <a:ext cx="24271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ministr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917720"/>
            <a:ext cx="275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5200" y="4264200"/>
            <a:ext cx="75657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dos los esfuerzos serían inútiles sino se llegara al proceso a la divulgación del trabajo, aquí en donde se evalúa el éxito del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1840" y="3516480"/>
            <a:ext cx="24274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ublic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064040"/>
            <a:ext cx="275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EEE-FE82-47FE-B4B9-048ADBA3A1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62880" y="253368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48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8680" y="171360"/>
            <a:ext cx="6529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Visu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19615" t="11788" r="21366" b="0"/>
          <a:stretch/>
        </p:blipFill>
        <p:spPr>
          <a:xfrm>
            <a:off x="857160" y="1000080"/>
            <a:ext cx="5975280" cy="5475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064280" y="1063800"/>
            <a:ext cx="0" cy="51480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70920" y="2724120"/>
            <a:ext cx="177156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sta de la pagina princip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 listado de libros dispon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51E-8413-40B8-A9E5-4044EB55F6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562880" y="253368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48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8680" y="171360"/>
            <a:ext cx="6529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00"/>
              </a:lnSpc>
              <a:spcBef>
                <a:spcPts val="1250"/>
              </a:spcBef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I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70920" y="2473200"/>
            <a:ext cx="1653840" cy="24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sualización  de Libro seleccionado así como su navegación a través de C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64280" y="1152360"/>
            <a:ext cx="0" cy="51483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13417" t="11962" r="7872" b="0"/>
          <a:stretch/>
        </p:blipFill>
        <p:spPr>
          <a:xfrm>
            <a:off x="165240" y="1182600"/>
            <a:ext cx="6642000" cy="50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434-4805-4F4C-A3A7-E1624798FE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7:59:43Z</dcterms:created>
  <dc:creator>Universidad De Sonora</dc:creator>
  <dc:description/>
  <dc:language>en-US</dc:language>
  <cp:lastModifiedBy>Universidad de Sonora</cp:lastModifiedBy>
  <dcterms:modified xsi:type="dcterms:W3CDTF">2006-08-23T01:38:43Z</dcterms:modified>
  <cp:revision>282</cp:revision>
  <dc:subject/>
  <dc:title>Diapositiva 1</dc:title>
</cp:coreProperties>
</file>