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801D-AE4B-424F-B1B4-9749903E0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4F1E-DBFE-4D8C-B041-248845F3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1784-929B-4B14-9186-9800B6F69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96A7-6D2B-42F4-9085-C9718957D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A874-EC61-40B8-AB44-D6A4C7BFE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9333-BD6C-43A0-B523-DF5B2B2D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E0AB-095D-4B3E-980F-4FE03180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B1FAC-7249-490C-908C-3CD3D483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B6E4-C034-489B-8D09-44CD6C31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0798-F80E-40A3-A1C8-F4759918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5BDDB-6A2B-4761-A24E-2551CA0D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AE50-ACDA-474F-9944-2B5CE52E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CA3F-E853-485C-BDAB-69C75A3E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88CA-A3DB-4821-98B0-FB7DF35D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B44E2-FD08-4902-AFA5-E38DDC5A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2565-70DE-4E47-A56E-BE258CA1D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E9AD-C397-4D81-A27C-F16ED19E1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8F4C-5657-45A3-AF4B-6686F547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8D2E-ED82-4157-8951-5B01994D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0EC8-301B-416F-970F-1D47B25D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839D-39E3-48D0-BF03-FBF9FE93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D415-B387-4761-B2B2-D016D47A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9D59-0A17-463D-AFD5-FF95DA55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8D42-7E4E-4F7F-B725-66063DC8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FDC5-4AD6-48F2-9802-B4854C3728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AB2A-7917-448C-AA3E-AED4AF6CC8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ict.udlap.mx/projects/cudi/rabid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</a:rPr>
              <a:t>Día Virtual sobre</a:t>
            </a:r>
            <a:br>
              <a:rPr sz="4400"/>
            </a:br>
            <a:r>
              <a:rPr b="0" lang="es-MX" sz="4400" spc="-1" strike="noStrike">
                <a:solidFill>
                  <a:srgbClr val="ffff00"/>
                </a:solidFill>
                <a:latin typeface="Arial"/>
              </a:rPr>
              <a:t>Preservación y Difusión Digital</a:t>
            </a:r>
            <a:br>
              <a:rPr sz="4400"/>
            </a:br>
            <a:r>
              <a:rPr b="0" lang="es-MX" sz="4400" spc="-1" strike="noStrike">
                <a:solidFill>
                  <a:srgbClr val="ffff00"/>
                </a:solidFill>
                <a:latin typeface="Arial"/>
              </a:rPr>
              <a:t>de Acervos Antigu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31640" y="6022440"/>
            <a:ext cx="655308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23 de agosto de 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012000" y="115920"/>
            <a:ext cx="2933640" cy="8762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904760" cy="9525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95280" y="3716280"/>
            <a:ext cx="84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Dr. Alfredo Sánchez,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MX" sz="2800" spc="-1" strike="noStrike">
                <a:solidFill>
                  <a:srgbClr val="ffffff"/>
                </a:solidFill>
                <a:latin typeface="Arial"/>
              </a:rPr>
              <a:t>Coordinador de la</a:t>
            </a:r>
            <a:br>
              <a:rPr sz="2800"/>
            </a:br>
            <a:r>
              <a:rPr b="0" i="1" lang="es-MX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MX" sz="2800" spc="-1" strike="noStrike">
                <a:solidFill>
                  <a:srgbClr val="ffffff"/>
                </a:solidFill>
                <a:latin typeface="Arial"/>
              </a:rPr>
              <a:t>Comunidad CUDI de Bibliotecas Digitales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Mtro. Manuel de Santiago,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MX" sz="2800" spc="-1" strike="noStrike">
                <a:solidFill>
                  <a:srgbClr val="ffffff"/>
                </a:solidFill>
                <a:latin typeface="Arial"/>
              </a:rPr>
              <a:t>Presidente de AMBIF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¡Bienvenidos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19 sedes por Internet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UDI, UdeG, UACJ, UASLP, UDLA, Mora, UV, USON, UNAM, UP, C Biotec Genómica, UAA, UCOL, UANL, UAMor, UAEH, TAMU-DF, UA Lag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esiones interac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articipantes en transmisión en vivo por Internet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teractividad vía </a:t>
            </a:r>
            <a:r>
              <a:rPr b="0" i="1" lang="es-MX" sz="2400" spc="-1" strike="noStrike">
                <a:solidFill>
                  <a:srgbClr val="ffffff"/>
                </a:solidFill>
                <a:latin typeface="Arial"/>
              </a:rPr>
              <a:t>chat: antrazo@hotmail.com / email: j.alfredo.sanchez@gmail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Tema Central: Acervos Antigu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Objeto: </a:t>
            </a:r>
            <a:br>
              <a:rPr sz="3200"/>
            </a:b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Patrimonio bibliográfico y documental</a:t>
            </a:r>
            <a:br>
              <a:rPr sz="3200"/>
            </a:b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Proces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Sociales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Valorización, investigación, diseminación, contextualización, colaboración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Técnicos/Tecnológicos: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Preservación, restauración, digitalización, catalogación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Tema Central: Acervos Antigu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Act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dividu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 Investigadores, bibliotecarios, ingenieros de software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stitucion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 Universidades, centros de investigación, archivos, bibliotecas públicas y privadas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grupacion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 CUDI, AMBIFA, AMABPAC,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Herramie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boratorios: restauración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Hardware especializado: scanners, almacenamiento masivo,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ftware: catalogación, visualización, administración,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ándares: descripción, recuperación, intercamb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Previamente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ías Virtuales sobre Bibliotecas Digit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14 de marzo 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25 de noviembre 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20 de sept. 2004 –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Acervos antiguos digit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13 de abril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 sept. 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ondos antiguos de la AMBIF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yectos UNAM-DGSCA y UC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sentaciones - Ho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tos y oportunida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aso UN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arcas de Fue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erramientas: xmLibr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vances en Sono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vances en Chol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rchivos notari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vances en Jalis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83560" y="5948280"/>
            <a:ext cx="54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…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Discusión, comentarios, bienven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A destacar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ipación de AMBIF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ación a l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 Abierta de Bibliotecas Digitales (RABiD)</a:t>
            </a:r>
            <a:br>
              <a:rPr sz="3200"/>
            </a:br>
            <a:r>
              <a:rPr b="0" lang="en-US" sz="3200" spc="-1" strike="noStrike" u="sng">
                <a:solidFill>
                  <a:srgbClr val="86d1ec"/>
                </a:solidFill>
                <a:uFillTx/>
                <a:latin typeface="Arial"/>
                <a:hlinkClick r:id="rId3"/>
              </a:rPr>
              <a:t>http://ict.udlap.mx/projects/cudi/rabid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portunidades de colabor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</a:rPr>
              <a:t>Día Virtual sobre</a:t>
            </a:r>
            <a:br>
              <a:rPr sz="4400"/>
            </a:br>
            <a:r>
              <a:rPr b="0" lang="es-MX" sz="4400" spc="-1" strike="noStrike">
                <a:solidFill>
                  <a:srgbClr val="ffff00"/>
                </a:solidFill>
                <a:latin typeface="Arial"/>
              </a:rPr>
              <a:t>Preservación y Difusión Digital</a:t>
            </a:r>
            <a:br>
              <a:rPr sz="4400"/>
            </a:br>
            <a:r>
              <a:rPr b="0" lang="es-MX" sz="4400" spc="-1" strike="noStrike">
                <a:solidFill>
                  <a:srgbClr val="ffff00"/>
                </a:solidFill>
                <a:latin typeface="Arial"/>
              </a:rPr>
              <a:t>de Acervos Antigu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31640" y="6022440"/>
            <a:ext cx="655308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23 de agosto de 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012000" y="115920"/>
            <a:ext cx="2933640" cy="8762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904760" cy="9525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95280" y="3716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¡Bienvenido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20:50:26Z</dcterms:created>
  <dc:creator>alfredo</dc:creator>
  <dc:description/>
  <dc:language>en-US</dc:language>
  <cp:lastModifiedBy>alfredo</cp:lastModifiedBy>
  <dcterms:modified xsi:type="dcterms:W3CDTF">2006-08-23T14:55:42Z</dcterms:modified>
  <cp:revision>4</cp:revision>
  <dc:subject/>
  <dc:title>Día Virtual sobre Preservación y Difusión Digital de Acervos Antiguos</dc:title>
</cp:coreProperties>
</file>